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93211"/>
        <c:axId val="40766324"/>
      </c:barChart>
      <c:catAx>
        <c:axId val="65193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6324"/>
        <c:crosses val="autoZero"/>
        <c:auto val="1"/>
        <c:lblAlgn val="ctr"/>
        <c:lblOffset val="100"/>
        <c:noMultiLvlLbl val="0"/>
      </c:catAx>
      <c:valAx>
        <c:axId val="40766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93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68AF-0B90-4992-8E56-60339A07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8FE-BB39-4A55-AD2A-5ADA211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963-DAF0-4A7C-A742-0C3F1909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297-9CD3-48D8-ADB7-E114AA41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9C7-0522-4B5F-9E00-139A434E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AF8-46E0-4AF7-89ED-94EAEA9C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918-44CC-46BD-B9FC-390EEAEE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12D-9204-462A-84BE-99D31DA6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65C-FF3C-4F86-9432-C1510A2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99F-B6BC-40D1-92CA-080F7C5C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C16-A85C-4DDE-8AC3-550B3DCD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B6F-EA22-4E32-AE65-C7C6BB5A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CF0FD-B03A-4471-B807-1A5A11AA42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