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31800"/>
        <c:axId val="40494783"/>
      </c:barChart>
      <c:catAx>
        <c:axId val="78431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94783"/>
        <c:crosses val="autoZero"/>
        <c:auto val="1"/>
        <c:lblAlgn val="ctr"/>
        <c:lblOffset val="100"/>
        <c:noMultiLvlLbl val="0"/>
      </c:catAx>
      <c:valAx>
        <c:axId val="40494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31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9F3-6791-4A5F-BFFC-AF6C45DF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626-9F2A-41AD-B52A-B1469787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F43-CA24-4BCF-A822-42AED5A6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5A9-5F0D-4D45-8E46-8B53C7B0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BD6-0961-4284-98FF-07D250F7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93B-F58C-4CD4-B3DC-7C56E37B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FE4-1027-401C-B083-1D209077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F4C-33BC-40FF-ADCF-345F8780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7BC-A166-4B56-8ED8-EF3220FE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254-7763-4BA6-A899-7B32E9B2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CCD-A060-4A8C-BFE3-CB018F81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5D4-B625-463D-A4DC-FBBEB748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B0AB3-D84D-4700-AA6A-CD2F20FF3A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