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357163"/>
        <c:axId val="58289406"/>
      </c:barChart>
      <c:catAx>
        <c:axId val="403571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289406"/>
        <c:crosses val="autoZero"/>
        <c:auto val="1"/>
        <c:lblAlgn val="ctr"/>
        <c:lblOffset val="100"/>
        <c:noMultiLvlLbl val="0"/>
      </c:catAx>
      <c:valAx>
        <c:axId val="582894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3571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02C7-AF4B-4D18-8698-E66C2F41E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F34D-A06A-4FF3-8D76-516E3B1B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20EE-7136-4ADE-8FC7-EFA0E6B68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D6E4-4E6B-4F70-906F-4062C6369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6900-E94B-40F8-828A-23281D47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80A0-0D18-4EF5-800E-3B74F5E2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3A21-36CC-44D1-88CE-E1CA7856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5328-9867-4CF4-81C6-F0099C6A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FC99-2E45-454E-9B8D-E23099DA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2F01-21CC-434E-81CB-EAD3148E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EFA2-D8FA-4945-80F8-3216A465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3147-D7E6-44EA-A298-351DB90D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4FF38-A364-44D5-901C-252844A142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