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3089"/>
        <c:axId val="2343044"/>
      </c:barChart>
      <c:catAx>
        <c:axId val="41683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044"/>
        <c:crosses val="autoZero"/>
        <c:auto val="1"/>
        <c:lblAlgn val="ctr"/>
        <c:lblOffset val="100"/>
        <c:noMultiLvlLbl val="0"/>
      </c:catAx>
      <c:valAx>
        <c:axId val="2343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3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295-D5D9-40DB-BDE2-B9AA5186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4BD-A5A8-45F5-9083-67B2E52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9BC-BF4E-4C30-8AFE-14187CBC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862-788B-4157-BB03-496CA8D2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763-CD9E-4B6C-A7D4-70262397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A89-9E9B-43A7-B865-46DD435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B2A-172D-4926-AE1A-A3D5DD2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490-53BF-4D4B-9676-E6EF56C4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308-5770-4728-B021-FB76E541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DDE-ADF4-44C6-9463-81322E5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5AE-9000-4C88-815C-0DDFBA3F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C3B-BF55-4D19-8356-47B40D1D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B4A98-1D0C-4410-9EC0-128E7597B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