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17002"/>
        <c:axId val="80885603"/>
      </c:barChart>
      <c:catAx>
        <c:axId val="17617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85603"/>
        <c:crosses val="autoZero"/>
        <c:auto val="1"/>
        <c:lblAlgn val="ctr"/>
        <c:lblOffset val="100"/>
        <c:noMultiLvlLbl val="0"/>
      </c:catAx>
      <c:valAx>
        <c:axId val="80885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17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50A-50A0-45D2-92C8-93169BC1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DA6-1B35-479E-B40C-2AF9EEED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ECC-BA8F-4C70-A4A4-E2CC9EBC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E58-2B8D-481C-B85B-E884E47E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E95-A915-43DA-9075-1C4073B5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368-527E-454F-BECD-A4DDBF28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25D-ABBB-4B84-92C2-3FE0C5A5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196-922A-4254-AD4A-CEAAD402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A08-0343-435C-A75A-DC5109E6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708-A56E-4515-978C-3E353D7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479-D144-4732-BCDE-E3990B6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F2C-74E0-4BC1-846F-0BE94A0A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ECAFB-80A6-4378-B720-902B8A434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